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6F7-3712-49C4-838A-91D9A502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AA6-CD36-4A99-AA2B-257B7088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DED-FEF6-49F8-8E00-0F1CDC5A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892-27B8-46EE-BB8E-25AAC88C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BFAC-DB96-4191-A3E5-94121250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1590-401E-4ED6-8024-E5C3087E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4B18-1ED9-41E5-9AE2-56D49BB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4F86-606A-45E2-BEDC-64CD7547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6848-0E3E-43A8-80DA-62C4D3C1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FD7A-2C4F-445B-BF42-A34159E1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97B7-9A75-40EF-9CBC-77AF358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C14-3DE2-47BF-9AB2-5F82C60C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DC4A-9ED4-464F-998B-27847441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3F1F-774D-42BC-94EF-A6FE5BD0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466C-3C2E-4E9F-A38D-6763C04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680B-C680-4E76-8F97-EDB937C5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A5A4-6F73-4E7C-B8C6-CDBE8CDD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E00-2B62-4FCC-BD92-98CE7202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C2C-809A-4931-805B-589DC9B5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B02-059C-4F7B-9D62-2D06085F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8B9-3480-4F5C-BA8F-4B085CC9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937-F559-4D23-83B2-223A9027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7A2-91DE-43E2-9994-B299F76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8E4-19A8-40DA-A6C0-5C96B2E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A9EE-C5F0-47BD-BAAB-90CF0A8FC7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41D5-E7C1-4EFE-9964-739F051A1E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riting a Strong Thesis Statement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Three “P’s”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thesis statement includes three “P’s.”  It is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your es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ample of a Thesis with the Three “P’s”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for good friends to have excellent moral character; they should have a sense of loyalty, kindness, and depend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: The most important qualities of a good friend are sense of humor, being kind, and someone I can depend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ree 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ong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three pro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your three examples from your “Examples of the Big Picture”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“Television can be educational; It helps you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helps you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remembe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ives you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information from all over the wor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rall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written in </a:t>
            </a:r>
            <a:r>
              <a:rPr b="0" lang="en-US" sz="2800" spc="-1" strike="noStrike">
                <a:solidFill>
                  <a:srgbClr val="c36c03"/>
                </a:solidFill>
                <a:latin typeface="Arial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, which means they have the same grammatical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“Television can be educational; </a:t>
            </a: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you learn, </a:t>
            </a: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you remember, and </a:t>
            </a: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you information from all over the worl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e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readers an idea of what the essay will be about (Your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big pi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“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Television can be educ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It helps you learn, It helps you remember, and it gives you information from all over the worl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actice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rompt: Write a letter to parents about the effects of students working while finishing high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Question: What are the effects of work on students finishing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 three brainstormed answers (your example column in quote disse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hree “P” 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ources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man, Bria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ing in Threes: the Power of Three in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Fort Collins, CO: Cottonwood, 2005. Pr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20:43Z</dcterms:created>
  <dc:creator>CEC 287</dc:creator>
  <dc:description/>
  <dc:language>en-US</dc:language>
  <cp:lastModifiedBy>Hilary W</cp:lastModifiedBy>
  <dcterms:modified xsi:type="dcterms:W3CDTF">2011-10-28T17:55:02Z</dcterms:modified>
  <cp:revision>27</cp:revision>
  <dc:subject/>
  <dc:title>Writing a Strong Thesis Statement</dc:title>
</cp:coreProperties>
</file>